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3B6F-7DBA-468A-BA95-AD8D8EB96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B57C-A32E-4639-8E23-D62EBA476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2AB3-008E-4DCC-91C3-4475D4BF0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41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39880" cy="865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5"/>
          <p:cNvSpPr/>
          <p:nvPr/>
        </p:nvSpPr>
        <p:spPr>
          <a:xfrm>
            <a:off x="1042920" y="0"/>
            <a:ext cx="8101080" cy="6858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-9360" y="3084480"/>
            <a:ext cx="2068200" cy="3786120"/>
            <a:chOff x="-9360" y="3084480"/>
            <a:chExt cx="2068200" cy="3786120"/>
          </a:xfrm>
        </p:grpSpPr>
        <p:sp>
          <p:nvSpPr>
            <p:cNvPr id="4" name="Freeform 8"/>
            <p:cNvSpPr/>
            <p:nvPr/>
          </p:nvSpPr>
          <p:spPr>
            <a:xfrm>
              <a:off x="-7920" y="4560840"/>
              <a:ext cx="1851120" cy="1604880"/>
            </a:xfrm>
            <a:custGeom>
              <a:avLst/>
              <a:gdLst>
                <a:gd name="textAreaLeft" fmla="*/ 0 w 1851120"/>
                <a:gd name="textAreaRight" fmla="*/ 1851480 w 1851120"/>
                <a:gd name="textAreaTop" fmla="*/ 0 h 1604880"/>
                <a:gd name="textAreaBottom" fmla="*/ 1605240 h 1604880"/>
              </a:gdLst>
              <a:ahLst/>
              <a:rect l="textAreaLeft" t="textAreaTop" r="textAreaRight" b="textAreaBottom"/>
              <a:pathLst>
                <a:path w="1166" h="1011">
                  <a:moveTo>
                    <a:pt x="0" y="1011"/>
                  </a:moveTo>
                  <a:lnTo>
                    <a:pt x="1165" y="12"/>
                  </a:lnTo>
                  <a:lnTo>
                    <a:pt x="1166" y="0"/>
                  </a:lnTo>
                  <a:lnTo>
                    <a:pt x="2" y="993"/>
                  </a:lnTo>
                  <a:lnTo>
                    <a:pt x="0" y="101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9"/>
            <p:cNvSpPr/>
            <p:nvPr/>
          </p:nvSpPr>
          <p:spPr>
            <a:xfrm>
              <a:off x="-7920" y="4200480"/>
              <a:ext cx="1860480" cy="1600200"/>
            </a:xfrm>
            <a:custGeom>
              <a:avLst/>
              <a:gdLst>
                <a:gd name="textAreaLeft" fmla="*/ 0 w 1860480"/>
                <a:gd name="textAreaRight" fmla="*/ 1860840 w 1860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172" h="1008">
                  <a:moveTo>
                    <a:pt x="0" y="1008"/>
                  </a:moveTo>
                  <a:lnTo>
                    <a:pt x="1165" y="15"/>
                  </a:lnTo>
                  <a:lnTo>
                    <a:pt x="1172" y="0"/>
                  </a:lnTo>
                  <a:lnTo>
                    <a:pt x="0" y="992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-7920" y="3965400"/>
              <a:ext cx="1706400" cy="1473480"/>
            </a:xfrm>
            <a:custGeom>
              <a:avLst/>
              <a:gdLst>
                <a:gd name="textAreaLeft" fmla="*/ 0 w 1706400"/>
                <a:gd name="textAreaRight" fmla="*/ 1706760 w 1706400"/>
                <a:gd name="textAreaTop" fmla="*/ 0 h 1473480"/>
                <a:gd name="textAreaBottom" fmla="*/ 1473840 h 1473480"/>
              </a:gdLst>
              <a:ahLst/>
              <a:rect l="textAreaLeft" t="textAreaTop" r="textAreaRight" b="textAreaBottom"/>
              <a:pathLst>
                <a:path w="1075" h="928">
                  <a:moveTo>
                    <a:pt x="0" y="928"/>
                  </a:moveTo>
                  <a:lnTo>
                    <a:pt x="1075" y="3"/>
                  </a:lnTo>
                  <a:lnTo>
                    <a:pt x="1070" y="0"/>
                  </a:lnTo>
                  <a:lnTo>
                    <a:pt x="0" y="913"/>
                  </a:lnTo>
                  <a:lnTo>
                    <a:pt x="0" y="92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1"/>
            <p:cNvSpPr/>
            <p:nvPr/>
          </p:nvSpPr>
          <p:spPr>
            <a:xfrm>
              <a:off x="-4680" y="4381560"/>
              <a:ext cx="1842840" cy="1600200"/>
            </a:xfrm>
            <a:custGeom>
              <a:avLst/>
              <a:gdLst>
                <a:gd name="textAreaLeft" fmla="*/ 0 w 1842840"/>
                <a:gd name="textAreaRight" fmla="*/ 1843200 w 184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161" h="1008">
                  <a:moveTo>
                    <a:pt x="0" y="1008"/>
                  </a:moveTo>
                  <a:lnTo>
                    <a:pt x="1161" y="8"/>
                  </a:lnTo>
                  <a:lnTo>
                    <a:pt x="1160" y="0"/>
                  </a:lnTo>
                  <a:lnTo>
                    <a:pt x="0" y="995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-7920" y="3665520"/>
              <a:ext cx="1846080" cy="1596960"/>
            </a:xfrm>
            <a:custGeom>
              <a:avLst/>
              <a:gdLst>
                <a:gd name="textAreaLeft" fmla="*/ 0 w 1846080"/>
                <a:gd name="textAreaRight" fmla="*/ 1846440 w 184608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1163" h="1006">
                  <a:moveTo>
                    <a:pt x="0" y="1006"/>
                  </a:moveTo>
                  <a:lnTo>
                    <a:pt x="1163" y="4"/>
                  </a:lnTo>
                  <a:lnTo>
                    <a:pt x="1159" y="0"/>
                  </a:lnTo>
                  <a:lnTo>
                    <a:pt x="2" y="985"/>
                  </a:lnTo>
                  <a:lnTo>
                    <a:pt x="0" y="100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3"/>
            <p:cNvSpPr/>
            <p:nvPr/>
          </p:nvSpPr>
          <p:spPr>
            <a:xfrm>
              <a:off x="-7920" y="3490920"/>
              <a:ext cx="1836720" cy="1589040"/>
            </a:xfrm>
            <a:custGeom>
              <a:avLst/>
              <a:gdLst>
                <a:gd name="textAreaLeft" fmla="*/ 0 w 1836720"/>
                <a:gd name="textAreaRight" fmla="*/ 1837080 w 1836720"/>
                <a:gd name="textAreaTop" fmla="*/ 0 h 1589040"/>
                <a:gd name="textAreaBottom" fmla="*/ 1589400 h 1589040"/>
              </a:gdLst>
              <a:ahLst/>
              <a:rect l="textAreaLeft" t="textAreaTop" r="textAreaRight" b="textAreaBottom"/>
              <a:pathLst>
                <a:path w="1157" h="1001">
                  <a:moveTo>
                    <a:pt x="0" y="1001"/>
                  </a:moveTo>
                  <a:lnTo>
                    <a:pt x="1157" y="8"/>
                  </a:lnTo>
                  <a:lnTo>
                    <a:pt x="1157" y="0"/>
                  </a:lnTo>
                  <a:lnTo>
                    <a:pt x="2" y="983"/>
                  </a:lnTo>
                  <a:lnTo>
                    <a:pt x="0" y="10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4"/>
            <p:cNvSpPr/>
            <p:nvPr/>
          </p:nvSpPr>
          <p:spPr>
            <a:xfrm>
              <a:off x="-4680" y="3503520"/>
              <a:ext cx="1404720" cy="1211400"/>
            </a:xfrm>
            <a:custGeom>
              <a:avLst/>
              <a:gdLst>
                <a:gd name="textAreaLeft" fmla="*/ 0 w 1404720"/>
                <a:gd name="textAreaRight" fmla="*/ 1405080 w 140472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885" h="763">
                  <a:moveTo>
                    <a:pt x="0" y="763"/>
                  </a:moveTo>
                  <a:lnTo>
                    <a:pt x="885" y="4"/>
                  </a:lnTo>
                  <a:lnTo>
                    <a:pt x="878" y="0"/>
                  </a:lnTo>
                  <a:lnTo>
                    <a:pt x="0" y="747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5"/>
            <p:cNvSpPr/>
            <p:nvPr/>
          </p:nvSpPr>
          <p:spPr>
            <a:xfrm>
              <a:off x="-7920" y="3193920"/>
              <a:ext cx="1541520" cy="134316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343160"/>
                <a:gd name="textAreaBottom" fmla="*/ 1343520 h 1343160"/>
              </a:gdLst>
              <a:ahLst/>
              <a:rect l="textAreaLeft" t="textAreaTop" r="textAreaRight" b="textAreaBottom"/>
              <a:pathLst>
                <a:path w="971" h="846">
                  <a:moveTo>
                    <a:pt x="0" y="846"/>
                  </a:moveTo>
                  <a:lnTo>
                    <a:pt x="971" y="3"/>
                  </a:lnTo>
                  <a:lnTo>
                    <a:pt x="968" y="0"/>
                  </a:lnTo>
                  <a:lnTo>
                    <a:pt x="0" y="831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6"/>
            <p:cNvSpPr/>
            <p:nvPr/>
          </p:nvSpPr>
          <p:spPr>
            <a:xfrm>
              <a:off x="-4680" y="3084480"/>
              <a:ext cx="1241280" cy="1087560"/>
            </a:xfrm>
            <a:custGeom>
              <a:avLst/>
              <a:gdLst>
                <a:gd name="textAreaLeft" fmla="*/ 0 w 1241280"/>
                <a:gd name="textAreaRight" fmla="*/ 1241640 w 1241280"/>
                <a:gd name="textAreaTop" fmla="*/ 0 h 1087560"/>
                <a:gd name="textAreaBottom" fmla="*/ 1087920 h 1087560"/>
              </a:gdLst>
              <a:ahLst/>
              <a:rect l="textAreaLeft" t="textAreaTop" r="textAreaRight" b="textAreaBottom"/>
              <a:pathLst>
                <a:path w="782" h="685">
                  <a:moveTo>
                    <a:pt x="0" y="685"/>
                  </a:moveTo>
                  <a:lnTo>
                    <a:pt x="782" y="7"/>
                  </a:lnTo>
                  <a:lnTo>
                    <a:pt x="777" y="0"/>
                  </a:lnTo>
                  <a:lnTo>
                    <a:pt x="0" y="670"/>
                  </a:lnTo>
                  <a:lnTo>
                    <a:pt x="0" y="68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7"/>
            <p:cNvSpPr/>
            <p:nvPr/>
          </p:nvSpPr>
          <p:spPr>
            <a:xfrm>
              <a:off x="-4680" y="3271680"/>
              <a:ext cx="804960" cy="71280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507" h="449">
                  <a:moveTo>
                    <a:pt x="0" y="449"/>
                  </a:moveTo>
                  <a:lnTo>
                    <a:pt x="507" y="6"/>
                  </a:lnTo>
                  <a:lnTo>
                    <a:pt x="504" y="0"/>
                  </a:lnTo>
                  <a:lnTo>
                    <a:pt x="0" y="435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8"/>
            <p:cNvSpPr/>
            <p:nvPr/>
          </p:nvSpPr>
          <p:spPr>
            <a:xfrm>
              <a:off x="-7920" y="4929120"/>
              <a:ext cx="1854360" cy="15955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595520"/>
                <a:gd name="textAreaBottom" fmla="*/ 1595880 h 1595520"/>
              </a:gdLst>
              <a:ahLst/>
              <a:rect l="textAreaLeft" t="textAreaTop" r="textAreaRight" b="textAreaBottom"/>
              <a:pathLst>
                <a:path w="1168" h="1005">
                  <a:moveTo>
                    <a:pt x="0" y="1005"/>
                  </a:moveTo>
                  <a:lnTo>
                    <a:pt x="1168" y="12"/>
                  </a:lnTo>
                  <a:lnTo>
                    <a:pt x="1166" y="0"/>
                  </a:lnTo>
                  <a:lnTo>
                    <a:pt x="2" y="989"/>
                  </a:lnTo>
                  <a:lnTo>
                    <a:pt x="0" y="100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9"/>
            <p:cNvSpPr/>
            <p:nvPr/>
          </p:nvSpPr>
          <p:spPr>
            <a:xfrm>
              <a:off x="-7920" y="5108400"/>
              <a:ext cx="1849320" cy="1611360"/>
            </a:xfrm>
            <a:custGeom>
              <a:avLst/>
              <a:gdLst>
                <a:gd name="textAreaLeft" fmla="*/ 0 w 1849320"/>
                <a:gd name="textAreaRight" fmla="*/ 1849680 w 184932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1165" h="1015">
                  <a:moveTo>
                    <a:pt x="0" y="1015"/>
                  </a:moveTo>
                  <a:lnTo>
                    <a:pt x="1165" y="12"/>
                  </a:lnTo>
                  <a:lnTo>
                    <a:pt x="1165" y="0"/>
                  </a:lnTo>
                  <a:lnTo>
                    <a:pt x="2" y="997"/>
                  </a:lnTo>
                  <a:lnTo>
                    <a:pt x="0" y="101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0"/>
            <p:cNvSpPr/>
            <p:nvPr/>
          </p:nvSpPr>
          <p:spPr>
            <a:xfrm>
              <a:off x="3240" y="5305320"/>
              <a:ext cx="1833480" cy="156204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1155" h="984">
                  <a:moveTo>
                    <a:pt x="16" y="984"/>
                  </a:moveTo>
                  <a:lnTo>
                    <a:pt x="1155" y="18"/>
                  </a:lnTo>
                  <a:lnTo>
                    <a:pt x="1153" y="0"/>
                  </a:lnTo>
                  <a:lnTo>
                    <a:pt x="0" y="984"/>
                  </a:lnTo>
                  <a:lnTo>
                    <a:pt x="16" y="98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1"/>
            <p:cNvSpPr/>
            <p:nvPr/>
          </p:nvSpPr>
          <p:spPr>
            <a:xfrm>
              <a:off x="233280" y="5484960"/>
              <a:ext cx="1614600" cy="1382400"/>
            </a:xfrm>
            <a:custGeom>
              <a:avLst/>
              <a:gdLst>
                <a:gd name="textAreaLeft" fmla="*/ 0 w 1614600"/>
                <a:gd name="textAreaRight" fmla="*/ 1614960 w 1614600"/>
                <a:gd name="textAreaTop" fmla="*/ 0 h 1382400"/>
                <a:gd name="textAreaBottom" fmla="*/ 1382400 h 1382400"/>
              </a:gdLst>
              <a:ahLst/>
              <a:rect l="textAreaLeft" t="textAreaTop" r="textAreaRight" b="textAreaBottom"/>
              <a:pathLst>
                <a:path w="1017" h="871">
                  <a:moveTo>
                    <a:pt x="17" y="871"/>
                  </a:moveTo>
                  <a:lnTo>
                    <a:pt x="1011" y="21"/>
                  </a:lnTo>
                  <a:lnTo>
                    <a:pt x="1017" y="0"/>
                  </a:lnTo>
                  <a:lnTo>
                    <a:pt x="0" y="870"/>
                  </a:lnTo>
                  <a:lnTo>
                    <a:pt x="17" y="87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2"/>
            <p:cNvSpPr/>
            <p:nvPr/>
          </p:nvSpPr>
          <p:spPr>
            <a:xfrm>
              <a:off x="681120" y="5889600"/>
              <a:ext cx="1189080" cy="981000"/>
            </a:xfrm>
            <a:custGeom>
              <a:avLst/>
              <a:gdLst>
                <a:gd name="textAreaLeft" fmla="*/ 0 w 1189080"/>
                <a:gd name="textAreaRight" fmla="*/ 1189080 w 118908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749" h="618">
                  <a:moveTo>
                    <a:pt x="0" y="618"/>
                  </a:moveTo>
                  <a:lnTo>
                    <a:pt x="723" y="6"/>
                  </a:lnTo>
                  <a:lnTo>
                    <a:pt x="749" y="0"/>
                  </a:lnTo>
                  <a:lnTo>
                    <a:pt x="24" y="616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3"/>
            <p:cNvSpPr/>
            <p:nvPr/>
          </p:nvSpPr>
          <p:spPr>
            <a:xfrm>
              <a:off x="907920" y="6072120"/>
              <a:ext cx="930240" cy="7952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586" h="501">
                  <a:moveTo>
                    <a:pt x="18" y="501"/>
                  </a:moveTo>
                  <a:lnTo>
                    <a:pt x="583" y="18"/>
                  </a:lnTo>
                  <a:lnTo>
                    <a:pt x="586" y="0"/>
                  </a:lnTo>
                  <a:lnTo>
                    <a:pt x="0" y="500"/>
                  </a:lnTo>
                  <a:lnTo>
                    <a:pt x="18" y="5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4"/>
            <p:cNvSpPr/>
            <p:nvPr/>
          </p:nvSpPr>
          <p:spPr>
            <a:xfrm>
              <a:off x="1119240" y="6253200"/>
              <a:ext cx="728640" cy="61416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459" h="387">
                  <a:moveTo>
                    <a:pt x="20" y="387"/>
                  </a:moveTo>
                  <a:lnTo>
                    <a:pt x="459" y="14"/>
                  </a:lnTo>
                  <a:lnTo>
                    <a:pt x="456" y="0"/>
                  </a:lnTo>
                  <a:lnTo>
                    <a:pt x="0" y="387"/>
                  </a:lnTo>
                  <a:lnTo>
                    <a:pt x="20" y="38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5"/>
            <p:cNvSpPr/>
            <p:nvPr/>
          </p:nvSpPr>
          <p:spPr>
            <a:xfrm>
              <a:off x="1579680" y="6638760"/>
              <a:ext cx="261720" cy="228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5" h="144">
                  <a:moveTo>
                    <a:pt x="13" y="144"/>
                  </a:moveTo>
                  <a:lnTo>
                    <a:pt x="162" y="17"/>
                  </a:lnTo>
                  <a:lnTo>
                    <a:pt x="165" y="0"/>
                  </a:lnTo>
                  <a:lnTo>
                    <a:pt x="0" y="143"/>
                  </a:lnTo>
                  <a:lnTo>
                    <a:pt x="13" y="14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6"/>
            <p:cNvSpPr/>
            <p:nvPr/>
          </p:nvSpPr>
          <p:spPr>
            <a:xfrm>
              <a:off x="1795320" y="6838920"/>
              <a:ext cx="33480" cy="284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1" h="18">
                  <a:moveTo>
                    <a:pt x="14" y="18"/>
                  </a:moveTo>
                  <a:lnTo>
                    <a:pt x="20" y="15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7"/>
            <p:cNvSpPr/>
            <p:nvPr/>
          </p:nvSpPr>
          <p:spPr>
            <a:xfrm>
              <a:off x="-7920" y="3089160"/>
              <a:ext cx="816120" cy="72396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514" h="456">
                  <a:moveTo>
                    <a:pt x="2" y="438"/>
                  </a:moveTo>
                  <a:lnTo>
                    <a:pt x="511" y="0"/>
                  </a:lnTo>
                  <a:lnTo>
                    <a:pt x="514" y="7"/>
                  </a:lnTo>
                  <a:lnTo>
                    <a:pt x="0" y="456"/>
                  </a:lnTo>
                  <a:lnTo>
                    <a:pt x="2" y="43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8"/>
            <p:cNvSpPr/>
            <p:nvPr/>
          </p:nvSpPr>
          <p:spPr>
            <a:xfrm>
              <a:off x="-7920" y="3260880"/>
              <a:ext cx="1258920" cy="1096920"/>
            </a:xfrm>
            <a:custGeom>
              <a:avLst/>
              <a:gdLst>
                <a:gd name="textAreaLeft" fmla="*/ 0 w 1258920"/>
                <a:gd name="textAreaRight" fmla="*/ 1258920 w 1258920"/>
                <a:gd name="textAreaTop" fmla="*/ 0 h 1096920"/>
                <a:gd name="textAreaBottom" fmla="*/ 1097280 h 1096920"/>
              </a:gdLst>
              <a:ahLst/>
              <a:rect l="textAreaLeft" t="textAreaTop" r="textAreaRight" b="textAreaBottom"/>
              <a:pathLst>
                <a:path w="793" h="691">
                  <a:moveTo>
                    <a:pt x="0" y="691"/>
                  </a:moveTo>
                  <a:lnTo>
                    <a:pt x="793" y="7"/>
                  </a:lnTo>
                  <a:lnTo>
                    <a:pt x="788" y="0"/>
                  </a:lnTo>
                  <a:lnTo>
                    <a:pt x="0" y="675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9"/>
            <p:cNvSpPr/>
            <p:nvPr/>
          </p:nvSpPr>
          <p:spPr>
            <a:xfrm>
              <a:off x="-4680" y="3614760"/>
              <a:ext cx="1485720" cy="128124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1281240"/>
                <a:gd name="textAreaBottom" fmla="*/ 1281600 h 1281240"/>
              </a:gdLst>
              <a:ahLst/>
              <a:rect l="textAreaLeft" t="textAreaTop" r="textAreaRight" b="textAreaBottom"/>
              <a:pathLst>
                <a:path w="936" h="807">
                  <a:moveTo>
                    <a:pt x="0" y="807"/>
                  </a:moveTo>
                  <a:lnTo>
                    <a:pt x="936" y="4"/>
                  </a:lnTo>
                  <a:lnTo>
                    <a:pt x="929" y="0"/>
                  </a:lnTo>
                  <a:lnTo>
                    <a:pt x="0" y="789"/>
                  </a:lnTo>
                  <a:lnTo>
                    <a:pt x="0" y="80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0"/>
            <p:cNvSpPr/>
            <p:nvPr/>
          </p:nvSpPr>
          <p:spPr>
            <a:xfrm>
              <a:off x="-7920" y="4003560"/>
              <a:ext cx="1854360" cy="161460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614600"/>
                <a:gd name="textAreaBottom" fmla="*/ 1614960 h 1614600"/>
              </a:gdLst>
              <a:ahLst/>
              <a:rect l="textAreaLeft" t="textAreaTop" r="textAreaRight" b="textAreaBottom"/>
              <a:pathLst>
                <a:path w="1168" h="1017">
                  <a:moveTo>
                    <a:pt x="0" y="1017"/>
                  </a:moveTo>
                  <a:lnTo>
                    <a:pt x="1168" y="9"/>
                  </a:lnTo>
                  <a:lnTo>
                    <a:pt x="1166" y="0"/>
                  </a:lnTo>
                  <a:lnTo>
                    <a:pt x="0" y="1000"/>
                  </a:lnTo>
                  <a:lnTo>
                    <a:pt x="0" y="101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1"/>
            <p:cNvSpPr/>
            <p:nvPr/>
          </p:nvSpPr>
          <p:spPr>
            <a:xfrm>
              <a:off x="-9360" y="4734000"/>
              <a:ext cx="1855800" cy="1617480"/>
            </a:xfrm>
            <a:custGeom>
              <a:avLst/>
              <a:gdLst>
                <a:gd name="textAreaLeft" fmla="*/ 0 w 1855800"/>
                <a:gd name="textAreaRight" fmla="*/ 1855800 w 1855800"/>
                <a:gd name="textAreaTop" fmla="*/ 0 h 1617480"/>
                <a:gd name="textAreaBottom" fmla="*/ 1617840 h 1617480"/>
              </a:gdLst>
              <a:ahLst/>
              <a:rect l="textAreaLeft" t="textAreaTop" r="textAreaRight" b="textAreaBottom"/>
              <a:pathLst>
                <a:path w="1169" h="1019">
                  <a:moveTo>
                    <a:pt x="0" y="1019"/>
                  </a:moveTo>
                  <a:lnTo>
                    <a:pt x="1166" y="12"/>
                  </a:lnTo>
                  <a:lnTo>
                    <a:pt x="1169" y="0"/>
                  </a:lnTo>
                  <a:lnTo>
                    <a:pt x="0" y="999"/>
                  </a:lnTo>
                  <a:lnTo>
                    <a:pt x="0" y="101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2"/>
            <p:cNvSpPr/>
            <p:nvPr/>
          </p:nvSpPr>
          <p:spPr>
            <a:xfrm>
              <a:off x="1341360" y="6261120"/>
              <a:ext cx="717480" cy="60624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452" h="382">
                  <a:moveTo>
                    <a:pt x="21" y="381"/>
                  </a:moveTo>
                  <a:lnTo>
                    <a:pt x="452" y="12"/>
                  </a:lnTo>
                  <a:lnTo>
                    <a:pt x="449" y="0"/>
                  </a:lnTo>
                  <a:lnTo>
                    <a:pt x="0" y="382"/>
                  </a:lnTo>
                  <a:lnTo>
                    <a:pt x="21" y="38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3"/>
            <p:cNvSpPr/>
            <p:nvPr/>
          </p:nvSpPr>
          <p:spPr>
            <a:xfrm>
              <a:off x="469800" y="5629320"/>
              <a:ext cx="1457280" cy="124128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918" h="782">
                  <a:moveTo>
                    <a:pt x="18" y="782"/>
                  </a:moveTo>
                  <a:lnTo>
                    <a:pt x="918" y="0"/>
                  </a:lnTo>
                  <a:lnTo>
                    <a:pt x="885" y="15"/>
                  </a:lnTo>
                  <a:lnTo>
                    <a:pt x="0" y="780"/>
                  </a:lnTo>
                  <a:lnTo>
                    <a:pt x="18" y="782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Text Box 38"/>
          <p:cNvSpPr/>
          <p:nvPr/>
        </p:nvSpPr>
        <p:spPr>
          <a:xfrm>
            <a:off x="111600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3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11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>
                <a:gd name="textAreaLeft" fmla="*/ 0 w 5322960"/>
                <a:gd name="textAreaRight" fmla="*/ 5323320 w 5322960"/>
                <a:gd name="textAreaTop" fmla="*/ 0 h 4672080"/>
                <a:gd name="textAreaBottom" fmla="*/ 4672080 h 4672080"/>
              </a:gdLst>
              <a:ahLst/>
              <a:rect l="textAreaLeft" t="textAreaTop" r="textAreaRight" b="textAreaBottom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>
                <a:gd name="textAreaLeft" fmla="*/ 0 w 4746600"/>
                <a:gd name="textAreaRight" fmla="*/ 4746960 w 4746600"/>
                <a:gd name="textAreaTop" fmla="*/ 0 h 4165560"/>
                <a:gd name="textAreaBottom" fmla="*/ 4165920 h 4165560"/>
              </a:gdLst>
              <a:ahLst/>
              <a:rect l="textAreaLeft" t="textAreaTop" r="textAreaRight" b="textAreaBottom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>
                <a:gd name="textAreaLeft" fmla="*/ 0 w 4835520"/>
                <a:gd name="textAreaRight" fmla="*/ 4835880 w 4835520"/>
                <a:gd name="textAreaTop" fmla="*/ 0 h 4240440"/>
                <a:gd name="textAreaBottom" fmla="*/ 4240440 h 4240440"/>
              </a:gdLst>
              <a:ahLst/>
              <a:rect l="textAreaLeft" t="textAreaTop" r="textAreaRight" b="textAreaBottom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884400"/>
                <a:gd name="textAreaBottom" fmla="*/ 3884760 h 3884400"/>
              </a:gdLst>
              <a:ahLst/>
              <a:rect l="textAreaLeft" t="textAreaTop" r="textAreaRight" b="textAreaBottom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3573360"/>
                <a:gd name="textAreaBottom" fmla="*/ 3573720 h 3573360"/>
              </a:gdLst>
              <a:ahLst/>
              <a:rect l="textAreaLeft" t="textAreaTop" r="textAreaRight" b="textAreaBottom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>
                <a:gd name="textAreaLeft" fmla="*/ 0 w 3954240"/>
                <a:gd name="textAreaRight" fmla="*/ 3954600 w 3954240"/>
                <a:gd name="textAreaTop" fmla="*/ 0 h 3449520"/>
                <a:gd name="textAreaBottom" fmla="*/ 3449880 h 3449520"/>
              </a:gdLst>
              <a:ahLst/>
              <a:rect l="textAreaLeft" t="textAreaTop" r="textAreaRight" b="textAreaBottom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>
                <a:gd name="textAreaLeft" fmla="*/ 0 w 4165560"/>
                <a:gd name="textAreaRight" fmla="*/ 4165920 w 416556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>
                <a:gd name="textAreaLeft" fmla="*/ 0 w 3699000"/>
                <a:gd name="textAreaRight" fmla="*/ 3699360 w 3699000"/>
                <a:gd name="textAreaTop" fmla="*/ 0 h 3244680"/>
                <a:gd name="textAreaBottom" fmla="*/ 3245040 h 3244680"/>
              </a:gdLst>
              <a:ahLst/>
              <a:rect l="textAreaLeft" t="textAreaTop" r="textAreaRight" b="textAreaBottom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>
                <a:gd name="textAreaLeft" fmla="*/ 0 w 3687840"/>
                <a:gd name="textAreaRight" fmla="*/ 3688200 w 3687840"/>
                <a:gd name="textAreaTop" fmla="*/ 0 h 3246120"/>
                <a:gd name="textAreaBottom" fmla="*/ 3246480 h 3246120"/>
              </a:gdLst>
              <a:ahLst/>
              <a:rect l="textAreaLeft" t="textAreaTop" r="textAreaRight" b="textAreaBottom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>
                <a:gd name="textAreaLeft" fmla="*/ 0 w 2992320"/>
                <a:gd name="textAreaRight" fmla="*/ 2992680 w 2992320"/>
                <a:gd name="textAreaTop" fmla="*/ 0 h 2652480"/>
                <a:gd name="textAreaBottom" fmla="*/ 2652480 h 2652480"/>
              </a:gdLst>
              <a:ahLst/>
              <a:rect l="textAreaLeft" t="textAreaTop" r="textAreaRight" b="textAreaBottom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>
                <a:gd name="textAreaLeft" fmla="*/ 0 w 2990880"/>
                <a:gd name="textAreaRight" fmla="*/ 2991240 w 2990880"/>
                <a:gd name="textAreaTop" fmla="*/ 0 h 2640240"/>
                <a:gd name="textAreaBottom" fmla="*/ 2640600 h 2640240"/>
              </a:gdLst>
              <a:ahLst/>
              <a:rect l="textAreaLeft" t="textAreaTop" r="textAreaRight" b="textAreaBottom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4283280"/>
                <a:gd name="textAreaBottom" fmla="*/ 4283640 h 4283280"/>
              </a:gdLst>
              <a:ahLst/>
              <a:rect l="textAreaLeft" t="textAreaTop" r="textAreaRight" b="textAreaBottom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>
                <a:gd name="textAreaLeft" fmla="*/ 0 w 4453200"/>
                <a:gd name="textAreaRight" fmla="*/ 4453560 w 4453200"/>
                <a:gd name="textAreaTop" fmla="*/ 0 h 3887640"/>
                <a:gd name="textAreaBottom" fmla="*/ 3888000 h 3887640"/>
              </a:gdLst>
              <a:ahLst/>
              <a:rect l="textAreaLeft" t="textAreaTop" r="textAreaRight" b="textAreaBottom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>
                <a:gd name="textAreaLeft" fmla="*/ 0 w 4566960"/>
                <a:gd name="textAreaRight" fmla="*/ 4567320 w 4566960"/>
                <a:gd name="textAreaTop" fmla="*/ 0 h 3956040"/>
                <a:gd name="textAreaBottom" fmla="*/ 3956400 h 3956040"/>
              </a:gdLst>
              <a:ahLst/>
              <a:rect l="textAreaLeft" t="textAreaTop" r="textAreaRight" b="textAreaBottom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>
                <a:gd name="textAreaLeft" fmla="*/ 0 w 4545000"/>
                <a:gd name="textAreaRight" fmla="*/ 4545360 w 4545000"/>
                <a:gd name="textAreaTop" fmla="*/ 0 h 3962520"/>
                <a:gd name="textAreaBottom" fmla="*/ 3962880 h 3962520"/>
              </a:gdLst>
              <a:ahLst/>
              <a:rect l="textAreaLeft" t="textAreaTop" r="textAreaRight" b="textAreaBottom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>
                <a:gd name="textAreaLeft" fmla="*/ 0 w 3897360"/>
                <a:gd name="textAreaRight" fmla="*/ 3897720 w 389736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>
                <a:gd name="textAreaLeft" fmla="*/ 0 w 4253040"/>
                <a:gd name="textAreaRight" fmla="*/ 4253400 w 4253040"/>
                <a:gd name="textAreaTop" fmla="*/ 0 h 3698640"/>
                <a:gd name="textAreaBottom" fmla="*/ 3699000 h 3698640"/>
              </a:gdLst>
              <a:ahLst/>
              <a:rect l="textAreaLeft" t="textAreaTop" r="textAreaRight" b="textAreaBottom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>
                <a:gd name="textAreaLeft" fmla="*/ 0 w 3184560"/>
                <a:gd name="textAreaRight" fmla="*/ 3184920 w 3184560"/>
                <a:gd name="textAreaTop" fmla="*/ 0 h 2746440"/>
                <a:gd name="textAreaBottom" fmla="*/ 2746800 h 2746440"/>
              </a:gdLst>
              <a:ahLst/>
              <a:rect l="textAreaLeft" t="textAreaTop" r="textAreaRight" b="textAreaBottom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>
                <a:gd name="textAreaLeft" fmla="*/ 0 w 3492720"/>
                <a:gd name="textAreaRight" fmla="*/ 3493080 w 3492720"/>
                <a:gd name="textAreaTop" fmla="*/ 0 h 3006720"/>
                <a:gd name="textAreaBottom" fmla="*/ 3007080 h 3006720"/>
              </a:gdLst>
              <a:ahLst/>
              <a:rect l="textAreaLeft" t="textAreaTop" r="textAreaRight" b="textAreaBottom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>
                <a:gd name="textAreaLeft" fmla="*/ 0 w 3376800"/>
                <a:gd name="textAreaRight" fmla="*/ 3377160 w 337680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>
                <a:gd name="textAreaLeft" fmla="*/ 0 w 2668680"/>
                <a:gd name="textAreaRight" fmla="*/ 2669040 w 26686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478240"/>
                <a:gd name="textAreaBottom" fmla="*/ 2478600 h 2478240"/>
              </a:gdLst>
              <a:ahLst/>
              <a:rect l="textAreaLeft" t="textAreaTop" r="textAreaRight" b="textAreaBottom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>
                <a:gd name="textAreaLeft" fmla="*/ 0 w 2865600"/>
                <a:gd name="textAreaRight" fmla="*/ 2865960 w 2865600"/>
                <a:gd name="textAreaTop" fmla="*/ 0 h 2498760"/>
                <a:gd name="textAreaBottom" fmla="*/ 2499120 h 2498760"/>
              </a:gdLst>
              <a:ahLst/>
              <a:rect l="textAreaLeft" t="textAreaTop" r="textAreaRight" b="textAreaBottom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>
                <a:gd name="textAreaLeft" fmla="*/ 0 w 2406600"/>
                <a:gd name="textAreaRight" fmla="*/ 2406960 w 2406600"/>
                <a:gd name="textAreaTop" fmla="*/ 0 h 2074680"/>
                <a:gd name="textAreaBottom" fmla="*/ 2075040 h 2074680"/>
              </a:gdLst>
              <a:ahLst/>
              <a:rect l="textAreaLeft" t="textAreaTop" r="textAreaRight" b="textAreaBottom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316160"/>
                <a:gd name="textAreaBottom" fmla="*/ 1316520 h 1316160"/>
              </a:gdLst>
              <a:ahLst/>
              <a:rect l="textAreaLeft" t="textAreaTop" r="textAreaRight" b="textAreaBottom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>
                <a:gd name="textAreaLeft" fmla="*/ 0 w 1652760"/>
                <a:gd name="textAreaRight" fmla="*/ 1653120 w 1652760"/>
                <a:gd name="textAreaTop" fmla="*/ 0 h 1438200"/>
                <a:gd name="textAreaBottom" fmla="*/ 1438560 h 1438200"/>
              </a:gdLst>
              <a:ahLst/>
              <a:rect l="textAreaLeft" t="textAreaTop" r="textAreaRight" b="textAreaBottom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>
                <a:gd name="textAreaLeft" fmla="*/ 0 w 2373480"/>
                <a:gd name="textAreaRight" fmla="*/ 2373840 w 2373480"/>
                <a:gd name="textAreaTop" fmla="*/ 0 h 2081160"/>
                <a:gd name="textAreaBottom" fmla="*/ 2081520 h 2081160"/>
              </a:gdLst>
              <a:ahLst/>
              <a:rect l="textAreaLeft" t="textAreaTop" r="textAreaRight" b="textAreaBottom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9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83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>
                <a:gd name="textAreaLeft" fmla="*/ 0 w 5322960"/>
                <a:gd name="textAreaRight" fmla="*/ 5323320 w 5322960"/>
                <a:gd name="textAreaTop" fmla="*/ 0 h 4672080"/>
                <a:gd name="textAreaBottom" fmla="*/ 4672080 h 4672080"/>
              </a:gdLst>
              <a:ahLst/>
              <a:rect l="textAreaLeft" t="textAreaTop" r="textAreaRight" b="textAreaBottom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>
                <a:gd name="textAreaLeft" fmla="*/ 0 w 4746600"/>
                <a:gd name="textAreaRight" fmla="*/ 4746960 w 4746600"/>
                <a:gd name="textAreaTop" fmla="*/ 0 h 4165560"/>
                <a:gd name="textAreaBottom" fmla="*/ 4165920 h 4165560"/>
              </a:gdLst>
              <a:ahLst/>
              <a:rect l="textAreaLeft" t="textAreaTop" r="textAreaRight" b="textAreaBottom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>
                <a:gd name="textAreaLeft" fmla="*/ 0 w 4835520"/>
                <a:gd name="textAreaRight" fmla="*/ 4835880 w 4835520"/>
                <a:gd name="textAreaTop" fmla="*/ 0 h 4240440"/>
                <a:gd name="textAreaBottom" fmla="*/ 4240440 h 4240440"/>
              </a:gdLst>
              <a:ahLst/>
              <a:rect l="textAreaLeft" t="textAreaTop" r="textAreaRight" b="textAreaBottom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884400"/>
                <a:gd name="textAreaBottom" fmla="*/ 3884760 h 3884400"/>
              </a:gdLst>
              <a:ahLst/>
              <a:rect l="textAreaLeft" t="textAreaTop" r="textAreaRight" b="textAreaBottom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3573360"/>
                <a:gd name="textAreaBottom" fmla="*/ 3573720 h 3573360"/>
              </a:gdLst>
              <a:ahLst/>
              <a:rect l="textAreaLeft" t="textAreaTop" r="textAreaRight" b="textAreaBottom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>
                <a:gd name="textAreaLeft" fmla="*/ 0 w 3954240"/>
                <a:gd name="textAreaRight" fmla="*/ 3954600 w 3954240"/>
                <a:gd name="textAreaTop" fmla="*/ 0 h 3449520"/>
                <a:gd name="textAreaBottom" fmla="*/ 3449880 h 3449520"/>
              </a:gdLst>
              <a:ahLst/>
              <a:rect l="textAreaLeft" t="textAreaTop" r="textAreaRight" b="textAreaBottom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>
                <a:gd name="textAreaLeft" fmla="*/ 0 w 4165560"/>
                <a:gd name="textAreaRight" fmla="*/ 4165920 w 416556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>
                <a:gd name="textAreaLeft" fmla="*/ 0 w 3699000"/>
                <a:gd name="textAreaRight" fmla="*/ 3699360 w 3699000"/>
                <a:gd name="textAreaTop" fmla="*/ 0 h 3244680"/>
                <a:gd name="textAreaBottom" fmla="*/ 3245040 h 3244680"/>
              </a:gdLst>
              <a:ahLst/>
              <a:rect l="textAreaLeft" t="textAreaTop" r="textAreaRight" b="textAreaBottom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>
                <a:gd name="textAreaLeft" fmla="*/ 0 w 3687840"/>
                <a:gd name="textAreaRight" fmla="*/ 3688200 w 3687840"/>
                <a:gd name="textAreaTop" fmla="*/ 0 h 3246120"/>
                <a:gd name="textAreaBottom" fmla="*/ 3246480 h 3246120"/>
              </a:gdLst>
              <a:ahLst/>
              <a:rect l="textAreaLeft" t="textAreaTop" r="textAreaRight" b="textAreaBottom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>
                <a:gd name="textAreaLeft" fmla="*/ 0 w 2992320"/>
                <a:gd name="textAreaRight" fmla="*/ 2992680 w 2992320"/>
                <a:gd name="textAreaTop" fmla="*/ 0 h 2652480"/>
                <a:gd name="textAreaBottom" fmla="*/ 2652480 h 2652480"/>
              </a:gdLst>
              <a:ahLst/>
              <a:rect l="textAreaLeft" t="textAreaTop" r="textAreaRight" b="textAreaBottom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>
                <a:gd name="textAreaLeft" fmla="*/ 0 w 2990880"/>
                <a:gd name="textAreaRight" fmla="*/ 2991240 w 2990880"/>
                <a:gd name="textAreaTop" fmla="*/ 0 h 2640240"/>
                <a:gd name="textAreaBottom" fmla="*/ 2640600 h 2640240"/>
              </a:gdLst>
              <a:ahLst/>
              <a:rect l="textAreaLeft" t="textAreaTop" r="textAreaRight" b="textAreaBottom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4283280"/>
                <a:gd name="textAreaBottom" fmla="*/ 4283640 h 4283280"/>
              </a:gdLst>
              <a:ahLst/>
              <a:rect l="textAreaLeft" t="textAreaTop" r="textAreaRight" b="textAreaBottom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>
                <a:gd name="textAreaLeft" fmla="*/ 0 w 4453200"/>
                <a:gd name="textAreaRight" fmla="*/ 4453560 w 4453200"/>
                <a:gd name="textAreaTop" fmla="*/ 0 h 3887640"/>
                <a:gd name="textAreaBottom" fmla="*/ 3888000 h 3887640"/>
              </a:gdLst>
              <a:ahLst/>
              <a:rect l="textAreaLeft" t="textAreaTop" r="textAreaRight" b="textAreaBottom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>
                <a:gd name="textAreaLeft" fmla="*/ 0 w 4566960"/>
                <a:gd name="textAreaRight" fmla="*/ 4567320 w 4566960"/>
                <a:gd name="textAreaTop" fmla="*/ 0 h 3956040"/>
                <a:gd name="textAreaBottom" fmla="*/ 3956400 h 3956040"/>
              </a:gdLst>
              <a:ahLst/>
              <a:rect l="textAreaLeft" t="textAreaTop" r="textAreaRight" b="textAreaBottom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>
                <a:gd name="textAreaLeft" fmla="*/ 0 w 4545000"/>
                <a:gd name="textAreaRight" fmla="*/ 4545360 w 4545000"/>
                <a:gd name="textAreaTop" fmla="*/ 0 h 3962520"/>
                <a:gd name="textAreaBottom" fmla="*/ 3962880 h 3962520"/>
              </a:gdLst>
              <a:ahLst/>
              <a:rect l="textAreaLeft" t="textAreaTop" r="textAreaRight" b="textAreaBottom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>
                <a:gd name="textAreaLeft" fmla="*/ 0 w 3897360"/>
                <a:gd name="textAreaRight" fmla="*/ 3897720 w 389736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>
                <a:gd name="textAreaLeft" fmla="*/ 0 w 4253040"/>
                <a:gd name="textAreaRight" fmla="*/ 4253400 w 4253040"/>
                <a:gd name="textAreaTop" fmla="*/ 0 h 3698640"/>
                <a:gd name="textAreaBottom" fmla="*/ 3699000 h 3698640"/>
              </a:gdLst>
              <a:ahLst/>
              <a:rect l="textAreaLeft" t="textAreaTop" r="textAreaRight" b="textAreaBottom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>
                <a:gd name="textAreaLeft" fmla="*/ 0 w 3184560"/>
                <a:gd name="textAreaRight" fmla="*/ 3184920 w 3184560"/>
                <a:gd name="textAreaTop" fmla="*/ 0 h 2746440"/>
                <a:gd name="textAreaBottom" fmla="*/ 2746800 h 2746440"/>
              </a:gdLst>
              <a:ahLst/>
              <a:rect l="textAreaLeft" t="textAreaTop" r="textAreaRight" b="textAreaBottom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>
                <a:gd name="textAreaLeft" fmla="*/ 0 w 3492720"/>
                <a:gd name="textAreaRight" fmla="*/ 3493080 w 3492720"/>
                <a:gd name="textAreaTop" fmla="*/ 0 h 3006720"/>
                <a:gd name="textAreaBottom" fmla="*/ 3007080 h 3006720"/>
              </a:gdLst>
              <a:ahLst/>
              <a:rect l="textAreaLeft" t="textAreaTop" r="textAreaRight" b="textAreaBottom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>
                <a:gd name="textAreaLeft" fmla="*/ 0 w 3376800"/>
                <a:gd name="textAreaRight" fmla="*/ 3377160 w 337680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>
                <a:gd name="textAreaLeft" fmla="*/ 0 w 2668680"/>
                <a:gd name="textAreaRight" fmla="*/ 2669040 w 26686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478240"/>
                <a:gd name="textAreaBottom" fmla="*/ 2478600 h 2478240"/>
              </a:gdLst>
              <a:ahLst/>
              <a:rect l="textAreaLeft" t="textAreaTop" r="textAreaRight" b="textAreaBottom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>
                <a:gd name="textAreaLeft" fmla="*/ 0 w 2865600"/>
                <a:gd name="textAreaRight" fmla="*/ 2865960 w 2865600"/>
                <a:gd name="textAreaTop" fmla="*/ 0 h 2498760"/>
                <a:gd name="textAreaBottom" fmla="*/ 2499120 h 2498760"/>
              </a:gdLst>
              <a:ahLst/>
              <a:rect l="textAreaLeft" t="textAreaTop" r="textAreaRight" b="textAreaBottom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>
                <a:gd name="textAreaLeft" fmla="*/ 0 w 2406600"/>
                <a:gd name="textAreaRight" fmla="*/ 2406960 w 2406600"/>
                <a:gd name="textAreaTop" fmla="*/ 0 h 2074680"/>
                <a:gd name="textAreaBottom" fmla="*/ 2075040 h 2074680"/>
              </a:gdLst>
              <a:ahLst/>
              <a:rect l="textAreaLeft" t="textAreaTop" r="textAreaRight" b="textAreaBottom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316160"/>
                <a:gd name="textAreaBottom" fmla="*/ 1316520 h 1316160"/>
              </a:gdLst>
              <a:ahLst/>
              <a:rect l="textAreaLeft" t="textAreaTop" r="textAreaRight" b="textAreaBottom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>
                <a:gd name="textAreaLeft" fmla="*/ 0 w 1652760"/>
                <a:gd name="textAreaRight" fmla="*/ 1653120 w 1652760"/>
                <a:gd name="textAreaTop" fmla="*/ 0 h 1438200"/>
                <a:gd name="textAreaBottom" fmla="*/ 1438560 h 1438200"/>
              </a:gdLst>
              <a:ahLst/>
              <a:rect l="textAreaLeft" t="textAreaTop" r="textAreaRight" b="textAreaBottom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>
                <a:gd name="textAreaLeft" fmla="*/ 0 w 2373480"/>
                <a:gd name="textAreaRight" fmla="*/ 2373840 w 2373480"/>
                <a:gd name="textAreaTop" fmla="*/ 0 h 2081160"/>
                <a:gd name="textAreaBottom" fmla="*/ 2081520 h 2081160"/>
              </a:gdLst>
              <a:ahLst/>
              <a:rect l="textAreaLeft" t="textAreaTop" r="textAreaRight" b="textAreaBottom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8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0"/>
          <p:cNvSpPr/>
          <p:nvPr/>
        </p:nvSpPr>
        <p:spPr>
          <a:xfrm>
            <a:off x="1763640" y="371628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655640" y="3711600"/>
            <a:ext cx="45720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me Su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b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vel 4, 99 York Street, Sydney NSW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ne (02) 9299 2845  Fax (02) 9290 22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b aisnsw.edu.au  Email ais@aisnsw.edu.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N 96 003 509 0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1619280" y="306864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ontac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isnswlanguages.wikispaces.com/" TargetMode="External"/><Relationship Id="rId2" Type="http://schemas.openxmlformats.org/officeDocument/2006/relationships/hyperlink" Target="http://www.aisnsw.edu.au/Services/PL/LanguagesSecondary/Pages/Promoting%20Languages.aspx" TargetMode="External"/><Relationship Id="rId3" Type="http://schemas.openxmlformats.org/officeDocument/2006/relationships/hyperlink" Target="http://research.acer.edu.au/cgi/viewcontent.cgi?article=1007&amp;context=aer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isnsw.edu.au/Services/PL/LanguagesSecondary/pages/default.aspx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oose Me! Day 2: </a:t>
            </a:r>
            <a:endParaRPr b="1" lang="en-US" sz="34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763640" y="3692520"/>
            <a:ext cx="691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cus on Stages 4 an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tober 1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Key concepts from Day 1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187280" y="1267920"/>
            <a:ext cx="7491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vide challenge, raise the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vide an engaging, supportive learn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fferentiate programs, lessons,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gram crea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learly articulated program 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grate across K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oughtful 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haring of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Resources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oose me materials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4faf8a"/>
                </a:solidFill>
                <a:uFillTx/>
                <a:latin typeface="Arial"/>
                <a:hlinkClick r:id="rId1"/>
              </a:rPr>
              <a:t>http://aisnswlanguages.wikispaces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anguage 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4faf8a"/>
                </a:solidFill>
                <a:uFillTx/>
                <a:latin typeface="Arial"/>
                <a:hlinkClick r:id="rId2"/>
              </a:rPr>
              <a:t>http://www.aisnsw.edu.au/Services/PL/LanguagesSecondary/Pages/Promoting%20Languages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Languages and Australian Schooling – Joseph Lo Bi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4faf8a"/>
                </a:solidFill>
                <a:uFillTx/>
                <a:latin typeface="Arial"/>
                <a:hlinkClick r:id="rId3"/>
              </a:rPr>
              <a:t>http://research.acer.edu.au/cgi/viewcontent.cgi?article=1007&amp;context=a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86920" y="-316080"/>
            <a:ext cx="74883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187280" y="475920"/>
            <a:ext cx="7491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Guardian – UK Teachers’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theguardian.com/teacher-network/series/language-learning-in-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haring of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tinyurl.com/choosemeday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00"/>
                </a:solidFill>
                <a:uFillTx/>
                <a:latin typeface="Arial"/>
              </a:rPr>
              <a:t>languagesAIS@studentnet.edu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Learn another language.wmv" descr=""/>
          <p:cNvPicPr/>
          <p:nvPr/>
        </p:nvPicPr>
        <p:blipFill>
          <a:blip r:embed="rId1"/>
          <a:stretch/>
        </p:blipFill>
        <p:spPr>
          <a:xfrm>
            <a:off x="2987640" y="4149720"/>
            <a:ext cx="30481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ounded Rectangle 3"/>
          <p:cNvSpPr/>
          <p:nvPr/>
        </p:nvSpPr>
        <p:spPr>
          <a:xfrm>
            <a:off x="1332000" y="1341360"/>
            <a:ext cx="7272360" cy="4391280"/>
          </a:xfrm>
          <a:prstGeom prst="roundRect">
            <a:avLst>
              <a:gd name="adj" fmla="val 16667"/>
            </a:avLst>
          </a:prstGeom>
          <a:solidFill>
            <a:srgbClr val="8ba4d5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Comic Sans MS"/>
              </a:rPr>
              <a:t>Aims of today…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187280" y="1699920"/>
            <a:ext cx="7491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To share strategies that you have implemented in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To discuss plans/ideas that could be put in place for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Oval 4"/>
          <p:cNvSpPr/>
          <p:nvPr/>
        </p:nvSpPr>
        <p:spPr>
          <a:xfrm>
            <a:off x="1908000" y="2637000"/>
            <a:ext cx="6264360" cy="2376360"/>
          </a:xfrm>
          <a:prstGeom prst="ellipse">
            <a:avLst/>
          </a:prstGeom>
          <a:solidFill>
            <a:srgbClr val="8ba4d5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Today will be….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 day of sharing of ideas focussing on how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Engag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halleng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Differentiate for ou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Promote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Table 1: QR codes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187280" y="1267920"/>
            <a:ext cx="7491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can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pp, scan the codes with iPad/i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Where do they l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reate QR codes 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qrstuff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could this tool be used to engage stu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could this tool be used to differentiat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could this tool be used to promote Language lea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Table 2: Resource repositories!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xplore Scoo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scootle.edu.au/ec/p/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to make a Scootle Learning path sheet in your f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Explore TES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tesaustralia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Table 3: Game-based learning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uld principles of GBL be used in language cla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viding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wards/bonus poi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y Sim on a stick (folder on deskt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atch student MLTA film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youtube.com/watch?v=JQ4a5T3TZ7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Table 4: Creating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ovie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iew student 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ww.youtube.com/watch?v=w9qBqyggX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Could moviemaking be  a valid assessment ta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ow could you embed it as part of your prog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xplore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torybirds http://storybird.com/creat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Thoughtful and sustainable  Language promotion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nks to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niversity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gular newsletter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pps we are using in languages this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udent reviews of apps/websit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nks to studen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488360" cy="9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273e6f"/>
                </a:solidFill>
                <a:latin typeface="Comic Sans MS"/>
              </a:rPr>
              <a:t>The AIS places the highest priority on the safety of its staff and visitors.</a:t>
            </a:r>
            <a:endParaRPr b="1" lang="en-US" sz="26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618920" y="3357360"/>
            <a:ext cx="67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5c94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c9458"/>
                </a:solidFill>
                <a:latin typeface="Comic Sans MS"/>
              </a:rPr>
              <a:t>‘</a:t>
            </a:r>
            <a:r>
              <a:rPr b="0" lang="en-AU" sz="2400" spc="-1" strike="noStrike">
                <a:solidFill>
                  <a:srgbClr val="5c9458"/>
                </a:solidFill>
                <a:latin typeface="Comic Sans MS"/>
              </a:rPr>
              <a:t>Beep, beep’ tone alerts wardens and occu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5c94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c9458"/>
                </a:solidFill>
                <a:latin typeface="Comic Sans MS"/>
              </a:rPr>
              <a:t>‘</a:t>
            </a:r>
            <a:r>
              <a:rPr b="0" lang="en-AU" sz="2400" spc="-1" strike="noStrike">
                <a:solidFill>
                  <a:srgbClr val="5c9458"/>
                </a:solidFill>
                <a:latin typeface="Comic Sans MS"/>
              </a:rPr>
              <a:t>Whoop, whoop’ tone signals evac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403280" y="1484280"/>
            <a:ext cx="756144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e326a"/>
                </a:solidFill>
                <a:latin typeface="Comic Sans MS"/>
              </a:rPr>
              <a:t>Should you require first aid assistance, please do not hesitate to ask 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e326a"/>
                </a:solidFill>
                <a:latin typeface="Comic Sans MS"/>
              </a:rPr>
              <a:t>In the event of a building evacuation being required the following procedure appl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332000" y="5157720"/>
            <a:ext cx="75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e326a"/>
                </a:solidFill>
                <a:latin typeface="Comic Sans MS"/>
              </a:rPr>
              <a:t>I will now explain the route to the nearest fire exit and if evacuation is required I will be your guide to the assembly a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332000" y="2153520"/>
            <a:ext cx="78120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Login: </a:t>
            </a:r>
            <a:r>
              <a:rPr b="1" lang="en-AU" sz="2800" spc="-1" strike="noStrike">
                <a:solidFill>
                  <a:srgbClr val="17365d"/>
                </a:solidFill>
                <a:latin typeface="Comic Sans MS"/>
                <a:ea typeface="Calibri"/>
              </a:rPr>
              <a:t>AISGuestw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Password: </a:t>
            </a:r>
            <a:r>
              <a:rPr b="1" lang="en-AU" sz="2800" spc="-1" strike="noStrike">
                <a:solidFill>
                  <a:srgbClr val="17365d"/>
                </a:solidFill>
                <a:latin typeface="Comic Sans MS"/>
                <a:ea typeface="Calibri"/>
              </a:rPr>
              <a:t>jakom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Open browser, input details and select NO when prompted to save password. LOG OFF when fini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Comic Sans MS"/>
              </a:rPr>
              <a:t>Wireless connection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Comic Sans MS"/>
              </a:rPr>
              <a:t>Languages update!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87280" y="980640"/>
            <a:ext cx="7491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Australian Curriculum- Where are we up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(according to ACA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Italian and Chinese curriculum being revised based on feedback from consul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Curriculum is being streamlined - 2 stran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Communic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Less sub-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Chinese and Italian to be approved by Minister early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Other languages to be revised in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Implementation for NSW?? (This decision rests with NSW minister andB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86920" y="-250560"/>
            <a:ext cx="7488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187280" y="549360"/>
            <a:ext cx="7491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2. Languages in N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BoS has undertaken a review of Languages Education Policy in NS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Content Placeholder 3" descr="C:\Users\Merryl\AppData\Local\Microsoft\Windows\Temporary Internet Files\Content.Outlook\MG62KL5E\photo.JPG"/>
          <p:cNvPicPr/>
          <p:nvPr/>
        </p:nvPicPr>
        <p:blipFill>
          <a:blip r:embed="rId1"/>
          <a:stretch/>
        </p:blipFill>
        <p:spPr>
          <a:xfrm>
            <a:off x="2268360" y="2276640"/>
            <a:ext cx="4386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1547640" y="765000"/>
            <a:ext cx="6120000" cy="85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eking views on six proposals “for a broader, more inclusive languages education for all NSW stude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SW Languages Policy will be developed and released during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sultation period - 9.10.13 – 13.12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line survey – BoS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8 consultation brief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New prescribed Extension texts for 2014-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Extension resources developed by DEC and AIS online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4faf8a"/>
                </a:solidFill>
                <a:uFillTx/>
                <a:latin typeface="Comic Sans MS"/>
                <a:hlinkClick r:id="rId1"/>
              </a:rPr>
              <a:t>http://www.aisnsw.edu.au/Services/PL/LanguagesSecondary/pages/default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Extension workshops- 28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&amp;29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October,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86920" y="-115920"/>
            <a:ext cx="7488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187280" y="333360"/>
            <a:ext cx="7491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. Upcoming Professional Learning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JTAN AGM - 19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October,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Extension workshops -28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&amp;29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October, 2013,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TeachMeet</a:t>
            </a:r>
            <a:r>
              <a:rPr b="0" i="1" lang="en-AU" sz="2400" spc="-1" strike="noStrike">
                <a:solidFill>
                  <a:srgbClr val="000000"/>
                </a:solidFill>
                <a:latin typeface="Comic Sans MS"/>
              </a:rPr>
              <a:t>French 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up your life! -15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November, Alliance Franç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Languages Review Webinar – November,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MLTA Conference – 7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March,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Japanese Symposium – 10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11th July, 2014, 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Oval 3"/>
          <p:cNvSpPr/>
          <p:nvPr/>
        </p:nvSpPr>
        <p:spPr>
          <a:xfrm>
            <a:off x="1403280" y="1628640"/>
            <a:ext cx="7129440" cy="3888000"/>
          </a:xfrm>
          <a:prstGeom prst="ellipse">
            <a:avLst/>
          </a:prstGeom>
          <a:solidFill>
            <a:srgbClr val="8ba4d5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cus on motivating student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tinue with languages beyond 100h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73e6f"/>
                </a:solidFill>
                <a:latin typeface="Arial"/>
              </a:rPr>
              <a:t>Choose Me!- Day 2</a:t>
            </a:r>
            <a:endParaRPr b="1" lang="en-US" sz="40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21:22:54Z</dcterms:created>
  <dc:creator>Administrator</dc:creator>
  <dc:description/>
  <dc:language>en-US</dc:language>
  <cp:lastModifiedBy>Merryl</cp:lastModifiedBy>
  <dcterms:modified xsi:type="dcterms:W3CDTF">2013-10-13T20:57:51Z</dcterms:modified>
  <cp:revision>186</cp:revision>
  <dc:subject/>
  <dc:title>Slide 1</dc:title>
</cp:coreProperties>
</file>